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E5C-2DAB-48AA-81F5-C8517E86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E4B-D376-4C12-BE00-08268F5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886-1824-47C7-B891-782040B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986-A3A9-45D4-99E4-0DD398BD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821-DB6A-4FC5-BF8F-04AB8B74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ABA-88BA-4C25-93D1-2E6931D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8E3-C759-491B-A8DD-4A43B51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4C6-F4CE-4001-A6F6-F51EEA13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CC8-BFF2-4431-8729-04B6893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64C-9C96-4E15-8B91-287D2EB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067-3977-4B42-A53A-528CCC0B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0A-051C-4858-B9D9-1279A96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F7F-C2EE-46C1-A768-6BF8F808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60020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Estimating Sums and Differen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of Dec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use estimation for getting an approximate value for multiplying, dividing, adding, and subtracting. Another kind of estimation is front-end estimation. How to front end estimation is on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53352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Do You Use Estimation?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457200"/>
            <a:ext cx="793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o do Front End Estim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first two dig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next two digits in the next place valu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not do anything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99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2940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888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8640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05720" y="52578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58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n you have an approximate value of what you would have gotten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" y="1676520"/>
            <a:ext cx="763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098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7640" y="2133720"/>
            <a:ext cx="11430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590920"/>
            <a:ext cx="6781680" cy="990360"/>
          </a:xfrm>
          <a:prstGeom prst="line">
            <a:avLst/>
          </a:prstGeom>
          <a:ln w="7632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505320"/>
            <a:ext cx="685800" cy="15238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21472200">
            <a:off x="1066680" y="380880"/>
            <a:ext cx="6705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pe This Hel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9880"/>
            <a:ext cx="8077320" cy="916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isn’t enough this website might give you a little bit more. Just click on this link right h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aamat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here are lots of math topics if you just don’t want front end esti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56:19Z</dcterms:created>
  <dc:creator>Kids</dc:creator>
  <dc:description/>
  <dc:language>en-US</dc:language>
  <cp:lastModifiedBy>Kids</cp:lastModifiedBy>
  <dcterms:modified xsi:type="dcterms:W3CDTF">2008-10-17T01:01:48Z</dcterms:modified>
  <cp:revision>3</cp:revision>
  <dc:subject/>
  <dc:title>Slide 1</dc:title>
</cp:coreProperties>
</file>